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023-5838-4B5F-8433-2CE36DA3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5E0-88A3-4452-B408-F2CF1D2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20A-E8AE-41E5-8A77-FF746C7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169-F98D-43C5-9920-4AED973B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9C9-29C0-4942-B628-5CCC9014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FED-D082-4634-BDFD-292945A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6E8-35AA-41E0-85FD-4F0E78DF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C03-95E2-42F1-BD73-32294440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945-23D7-4714-8DA4-ECF2AF88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E1A-7FC6-4F55-B5A9-334751F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DB5-E791-4504-B31C-5CE1BDB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A8D-4BD4-4C99-B790-34B7D5E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C52B-EC9B-48FF-85B0-4427FC42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7 Tebe len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a ti viac podob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naveky byť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blaha v tebe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a ti viac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hriechu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lkom oči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tebe sily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avej veľk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a ti viac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,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tále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ojich túžob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 tebou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38:46Z</dcterms:modified>
  <cp:revision>20</cp:revision>
  <dc:subject/>
  <dc:title>Je veľký náš Pán, on slávy je Kráľ Nech do všetkých strán  spev vrúcnych znie chvál.</dc:title>
</cp:coreProperties>
</file>